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448-9AF5-4337-89C0-1CEA8C75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47D-4352-4772-92E5-60B56116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453-A14D-4E26-9A66-6994AD9B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CF5-7CCC-486A-9B2B-CD1C03DB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0E45-499C-470F-A403-E1DA33F5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094A-508D-4DBB-8E7C-E1167702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0012-A317-4CF8-BA92-81976E38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519-F3CF-4D94-BD13-8A6E9FEC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56D4-3503-4E72-8FFB-40B23087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2822-4CA3-41A9-8CF6-5D488A0D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1A93-0451-4D31-878F-78E7958B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DE6-EE16-4A60-872F-00074F6E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2BC3-2B25-4412-9426-CEB335AD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C468-F494-4654-B163-E0AEE136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7AA4-D9A3-4364-B415-BEE27605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4F73-5018-450B-AB7E-D4C23EBC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F21E-1FF5-4105-8C14-5E1F7062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E3B-A72C-4AE4-945D-16739790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5C4-A778-4BB0-AB53-65FF45A9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E67-992B-47BE-8FBA-E511A084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C1F-B95B-49C1-9258-828B5461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ECD-871B-44E2-B9BA-4DA4FA3A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202-D410-42A2-9E67-7061A48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D88-ECA9-49A4-94A7-648D131E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7-3: 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B8BA-DB97-4111-BF2C-002B2233F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7-3: 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9DC8-C4DB-426C-843B-6CB7F023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F2AB-A97B-4704-B506-599E5E55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.8.2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5800" y="220968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Special Right Triang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BA1C-BB77-4597-9DBF-B60856CAD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5°-45°-90° Special Right Triangl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triang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-45°-90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ypotenuse is        times as long as a l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7"/>
          <p:cNvGraphicFramePr/>
          <p:nvPr/>
        </p:nvGraphicFramePr>
        <p:xfrm>
          <a:off x="7315200" y="3733920"/>
          <a:ext cx="3808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733920"/>
                    <a:ext cx="380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6248520" y="1905120"/>
          <a:ext cx="4572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05120"/>
                    <a:ext cx="457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AutoShape 6"/>
          <p:cNvSpPr/>
          <p:nvPr/>
        </p:nvSpPr>
        <p:spPr>
          <a:xfrm>
            <a:off x="1523880" y="3200400"/>
            <a:ext cx="2895840" cy="25146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52388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198108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9"/>
          <p:cNvSpPr/>
          <p:nvPr/>
        </p:nvSpPr>
        <p:spPr>
          <a:xfrm rot="7218600">
            <a:off x="1149120" y="3127320"/>
            <a:ext cx="609840" cy="91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</a:path>
              <a:path stroke="0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1"/>
          <p:cNvSpPr/>
          <p:nvPr/>
        </p:nvSpPr>
        <p:spPr>
          <a:xfrm rot="16510200">
            <a:off x="4241880" y="4901400"/>
            <a:ext cx="477720" cy="1341720"/>
          </a:xfrm>
          <a:custGeom>
            <a:avLst/>
            <a:gdLst>
              <a:gd name="textAreaLeft" fmla="*/ 0 w 477720"/>
              <a:gd name="textAreaRight" fmla="*/ 478080 w 477720"/>
              <a:gd name="textAreaTop" fmla="*/ 0 h 1341720"/>
              <a:gd name="textAreaBottom" fmla="*/ 1342080 h 1341720"/>
            </a:gdLst>
            <a:ahLst/>
            <a:rect l="textAreaLeft" t="textAreaTop" r="textAreaRight" b="textAreaBottom"/>
            <a:pathLst>
              <a:path fill="none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</a:path>
              <a:path stroke="0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  <a:lnTo>
                  <a:pt x="1967" y="21600"/>
                </a:lnTo>
                <a:lnTo>
                  <a:pt x="-1" y="8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765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20040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89548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3352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9907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 flipV="1">
            <a:off x="2743200" y="5788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685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198108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9436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6019920" y="3200400"/>
            <a:ext cx="2209680" cy="1828800"/>
          </a:xfrm>
          <a:prstGeom prst="rtTriangl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6"/>
          <p:cNvSpPr/>
          <p:nvPr/>
        </p:nvSpPr>
        <p:spPr>
          <a:xfrm>
            <a:off x="601992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6477120" y="4648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601992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739152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5334120" y="4038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6781680" y="5029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716292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7"/>
          <p:cNvGraphicFramePr/>
          <p:nvPr/>
        </p:nvGraphicFramePr>
        <p:xfrm>
          <a:off x="3657600" y="4419720"/>
          <a:ext cx="457200" cy="40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4419720"/>
                    <a:ext cx="4572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3A3B-D989-417E-BAEA-CC2582D9C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3960" y="-228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 Black"/>
              </a:rPr>
              <a:t>30°-60°-90° Special Right Triangle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°-60°-90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, the hypotenuse  is twice as long as the short leg, and the long leg is        times as long as the shorter l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057400" y="2133720"/>
            <a:ext cx="1905120" cy="38862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2057400" y="5562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14600" y="5562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004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057400" y="299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8954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1219320" y="4648320"/>
            <a:ext cx="968040" cy="459720"/>
            <a:chOff x="1219320" y="4648320"/>
            <a:chExt cx="968040" cy="459720"/>
          </a:xfrm>
        </p:grpSpPr>
        <p:graphicFrame>
          <p:nvGraphicFramePr>
            <p:cNvPr id="141" name="Object 13"/>
            <p:cNvGraphicFramePr/>
            <p:nvPr/>
          </p:nvGraphicFramePr>
          <p:xfrm>
            <a:off x="1560240" y="4705200"/>
            <a:ext cx="627120" cy="32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60240" y="4705200"/>
                      <a:ext cx="627120" cy="32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4"/>
            <p:cNvSpPr/>
            <p:nvPr/>
          </p:nvSpPr>
          <p:spPr>
            <a:xfrm>
              <a:off x="1219320" y="4648320"/>
              <a:ext cx="5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15"/>
          <p:cNvSpPr/>
          <p:nvPr/>
        </p:nvSpPr>
        <p:spPr>
          <a:xfrm>
            <a:off x="335268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8088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ng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2438280" y="6400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hort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8"/>
          <p:cNvGraphicFramePr/>
          <p:nvPr/>
        </p:nvGraphicFramePr>
        <p:xfrm>
          <a:off x="3448080" y="1257480"/>
          <a:ext cx="495360" cy="49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8080" y="1257480"/>
                    <a:ext cx="4953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9"/>
          <p:cNvSpPr/>
          <p:nvPr/>
        </p:nvSpPr>
        <p:spPr>
          <a:xfrm>
            <a:off x="289548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0"/>
          <p:cNvGraphicFramePr/>
          <p:nvPr/>
        </p:nvGraphicFramePr>
        <p:xfrm>
          <a:off x="5180040" y="4556160"/>
          <a:ext cx="3067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0040" y="4556160"/>
                    <a:ext cx="3067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1"/>
          <p:cNvGraphicFramePr/>
          <p:nvPr/>
        </p:nvGraphicFramePr>
        <p:xfrm>
          <a:off x="5502240" y="3930480"/>
          <a:ext cx="263700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2240" y="3930480"/>
                    <a:ext cx="2637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F3D1-E7C7-44DB-80E8-7029F491D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°-60°-90° Special Right Triangl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triang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°-60°-90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hypotenuse  is twice as long as the shorter leg, and the longer leg is        times as long as the shorter l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057400" y="3200400"/>
            <a:ext cx="1752480" cy="25146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2057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251460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rc 10"/>
          <p:cNvSpPr/>
          <p:nvPr/>
        </p:nvSpPr>
        <p:spPr>
          <a:xfrm rot="7218600">
            <a:off x="1734120" y="3209040"/>
            <a:ext cx="403200" cy="928800"/>
          </a:xfrm>
          <a:custGeom>
            <a:avLst/>
            <a:gdLst>
              <a:gd name="textAreaLeft" fmla="*/ 0 w 403200"/>
              <a:gd name="textAreaRight" fmla="*/ 403560 w 4032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fill="none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</a:path>
              <a:path stroke="0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rc 12"/>
          <p:cNvSpPr/>
          <p:nvPr/>
        </p:nvSpPr>
        <p:spPr>
          <a:xfrm rot="16510200">
            <a:off x="3724200" y="4749120"/>
            <a:ext cx="477720" cy="1392480"/>
          </a:xfrm>
          <a:custGeom>
            <a:avLst/>
            <a:gdLst>
              <a:gd name="textAreaLeft" fmla="*/ 0 w 477720"/>
              <a:gd name="textAreaRight" fmla="*/ 478080 w 47772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fill="none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</a:path>
              <a:path stroke="0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  <a:lnTo>
                  <a:pt x="1967" y="21600"/>
                </a:lnTo>
                <a:lnTo>
                  <a:pt x="-1" y="8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03040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157560" y="530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8954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3"/>
          <p:cNvGrpSpPr/>
          <p:nvPr/>
        </p:nvGrpSpPr>
        <p:grpSpPr>
          <a:xfrm>
            <a:off x="1295280" y="4648320"/>
            <a:ext cx="704880" cy="476280"/>
            <a:chOff x="1295280" y="4648320"/>
            <a:chExt cx="704880" cy="476280"/>
          </a:xfrm>
        </p:grpSpPr>
        <p:graphicFrame>
          <p:nvGraphicFramePr>
            <p:cNvPr id="169" name="Object 33"/>
            <p:cNvGraphicFramePr/>
            <p:nvPr/>
          </p:nvGraphicFramePr>
          <p:xfrm>
            <a:off x="1600200" y="4724640"/>
            <a:ext cx="399960" cy="39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4724640"/>
                      <a:ext cx="3999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Text Box 16"/>
            <p:cNvSpPr/>
            <p:nvPr/>
          </p:nvSpPr>
          <p:spPr>
            <a:xfrm>
              <a:off x="1295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17"/>
          <p:cNvSpPr/>
          <p:nvPr/>
        </p:nvSpPr>
        <p:spPr>
          <a:xfrm>
            <a:off x="2971800" y="3976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 flipV="1">
            <a:off x="2705040" y="5723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38088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nger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2332080" y="603576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horter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594360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/>
          <p:cNvSpPr/>
          <p:nvPr/>
        </p:nvSpPr>
        <p:spPr>
          <a:xfrm>
            <a:off x="6172200" y="4038480"/>
            <a:ext cx="1409760" cy="1814760"/>
          </a:xfrm>
          <a:prstGeom prst="rtTriangl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6172200" y="5486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6629400" y="5486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610236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689616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7086600" y="44798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6705720" y="5867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31"/>
          <p:cNvGraphicFramePr/>
          <p:nvPr/>
        </p:nvGraphicFramePr>
        <p:xfrm>
          <a:off x="7086600" y="2286000"/>
          <a:ext cx="49536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2286000"/>
                    <a:ext cx="495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35"/>
          <p:cNvSpPr/>
          <p:nvPr/>
        </p:nvSpPr>
        <p:spPr>
          <a:xfrm>
            <a:off x="2438280" y="4267080"/>
            <a:ext cx="83844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 flipH="1" flipV="1">
            <a:off x="2133720" y="4648320"/>
            <a:ext cx="1218960" cy="6537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7"/>
          <p:cNvSpPr/>
          <p:nvPr/>
        </p:nvSpPr>
        <p:spPr>
          <a:xfrm flipV="1">
            <a:off x="2514600" y="4495320"/>
            <a:ext cx="838080" cy="6858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44"/>
          <p:cNvGrpSpPr/>
          <p:nvPr/>
        </p:nvGrpSpPr>
        <p:grpSpPr>
          <a:xfrm>
            <a:off x="5181480" y="4724280"/>
            <a:ext cx="1143000" cy="398880"/>
            <a:chOff x="5181480" y="4724280"/>
            <a:chExt cx="1143000" cy="398880"/>
          </a:xfrm>
        </p:grpSpPr>
        <p:sp>
          <p:nvSpPr>
            <p:cNvPr id="190" name="Text Box 29"/>
            <p:cNvSpPr/>
            <p:nvPr/>
          </p:nvSpPr>
          <p:spPr>
            <a:xfrm>
              <a:off x="5181480" y="4724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     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39"/>
            <p:cNvGraphicFramePr/>
            <p:nvPr/>
          </p:nvGraphicFramePr>
          <p:xfrm>
            <a:off x="5410080" y="4724280"/>
            <a:ext cx="38088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3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0080" y="4724280"/>
                      <a:ext cx="3808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B1F5-FB16-4F1E-9433-F7A8D2C5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value of a and b.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2057400" y="1828800"/>
            <a:ext cx="2209680" cy="1981080"/>
          </a:xfrm>
          <a:prstGeom prst="rtTriangle">
            <a:avLst/>
          </a:prstGeom>
          <a:solidFill>
            <a:srgbClr val="d6e0e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24382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0574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219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8195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4290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17524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d the missing angle mea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400800" y="4343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429000" y="3429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 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1752480" y="4724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special right triangle app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7162920" y="4724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30°-60°-9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1752480" y="5181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 the 30°-60°-90° pattern with the prob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6095880" y="1981080"/>
            <a:ext cx="1600200" cy="1752840"/>
          </a:xfrm>
          <a:prstGeom prst="rtTriangl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609588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64008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95880" y="2286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70866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6629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69343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28"/>
          <p:cNvGraphicFramePr/>
          <p:nvPr/>
        </p:nvGraphicFramePr>
        <p:xfrm>
          <a:off x="5334120" y="2752560"/>
          <a:ext cx="6094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75256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Oval 30"/>
          <p:cNvSpPr/>
          <p:nvPr/>
        </p:nvSpPr>
        <p:spPr>
          <a:xfrm>
            <a:off x="6477120" y="3733920"/>
            <a:ext cx="685800" cy="457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1143000" y="2286000"/>
            <a:ext cx="8380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34"/>
          <p:cNvSpPr/>
          <p:nvPr/>
        </p:nvSpPr>
        <p:spPr>
          <a:xfrm>
            <a:off x="5257800" y="2743200"/>
            <a:ext cx="838080" cy="5335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5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39"/>
          <p:cNvCxnSpPr>
            <a:stCxn id="221" idx="6"/>
            <a:endCxn id="220" idx="3"/>
          </p:cNvCxnSpPr>
          <p:nvPr/>
        </p:nvCxnSpPr>
        <p:spPr>
          <a:xfrm flipV="1">
            <a:off x="3290760" y="3212280"/>
            <a:ext cx="2090160" cy="826200"/>
          </a:xfrm>
          <a:prstGeom prst="curved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3" name="Oval 40"/>
          <p:cNvSpPr/>
          <p:nvPr/>
        </p:nvSpPr>
        <p:spPr>
          <a:xfrm>
            <a:off x="3276720" y="2590920"/>
            <a:ext cx="60948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41"/>
          <p:cNvSpPr/>
          <p:nvPr/>
        </p:nvSpPr>
        <p:spPr>
          <a:xfrm>
            <a:off x="6781680" y="2438280"/>
            <a:ext cx="76212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AutoShape 42"/>
          <p:cNvCxnSpPr>
            <a:stCxn id="223" idx="6"/>
            <a:endCxn id="224" idx="2"/>
          </p:cNvCxnSpPr>
          <p:nvPr/>
        </p:nvCxnSpPr>
        <p:spPr>
          <a:xfrm flipV="1">
            <a:off x="3900600" y="2666520"/>
            <a:ext cx="2867760" cy="153360"/>
          </a:xfrm>
          <a:prstGeom prst="bentConnector3">
            <a:avLst>
              <a:gd name="adj1" fmla="val 49993"/>
            </a:avLst>
          </a:prstGeom>
          <a:ln w="381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26" name="Text Box 47"/>
          <p:cNvSpPr/>
          <p:nvPr/>
        </p:nvSpPr>
        <p:spPr>
          <a:xfrm>
            <a:off x="228600" y="3657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=   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8"/>
          <p:cNvSpPr/>
          <p:nvPr/>
        </p:nvSpPr>
        <p:spPr>
          <a:xfrm>
            <a:off x="228600" y="3429000"/>
            <a:ext cx="1523880" cy="838080"/>
          </a:xfrm>
          <a:prstGeom prst="wedgeRoundRectCallout">
            <a:avLst>
              <a:gd name="adj1" fmla="val 118333"/>
              <a:gd name="adj2" fmla="val 4071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3962520" y="1905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= 14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50"/>
          <p:cNvCxnSpPr>
            <a:stCxn id="219" idx="7"/>
            <a:endCxn id="218" idx="3"/>
          </p:cNvCxnSpPr>
          <p:nvPr/>
        </p:nvCxnSpPr>
        <p:spPr>
          <a:xfrm flipH="1" rot="16200000">
            <a:off x="3312000" y="873000"/>
            <a:ext cx="1811880" cy="4718520"/>
          </a:xfrm>
          <a:prstGeom prst="curvedConnector5">
            <a:avLst>
              <a:gd name="adj1" fmla="val -27861"/>
              <a:gd name="adj2" fmla="val 25652"/>
              <a:gd name="adj3" fmla="val -27861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30" name="AutoShape 52"/>
          <p:cNvSpPr/>
          <p:nvPr/>
        </p:nvSpPr>
        <p:spPr>
          <a:xfrm>
            <a:off x="3886200" y="1828800"/>
            <a:ext cx="1447920" cy="533520"/>
          </a:xfrm>
          <a:prstGeom prst="wedgeRoundRectCallout">
            <a:avLst>
              <a:gd name="adj1" fmla="val -58550"/>
              <a:gd name="adj2" fmla="val 10803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3"/>
          <p:cNvSpPr/>
          <p:nvPr/>
        </p:nvSpPr>
        <p:spPr>
          <a:xfrm>
            <a:off x="175248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5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for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54"/>
          <p:cNvGraphicFramePr/>
          <p:nvPr/>
        </p:nvGraphicFramePr>
        <p:xfrm>
          <a:off x="685800" y="3657600"/>
          <a:ext cx="53352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657600"/>
                    <a:ext cx="533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60"/>
          <p:cNvGrpSpPr/>
          <p:nvPr/>
        </p:nvGrpSpPr>
        <p:grpSpPr>
          <a:xfrm>
            <a:off x="1752480" y="5562720"/>
            <a:ext cx="7162920" cy="398880"/>
            <a:chOff x="1752480" y="5562720"/>
            <a:chExt cx="7162920" cy="398880"/>
          </a:xfrm>
        </p:grpSpPr>
        <p:sp>
          <p:nvSpPr>
            <p:cNvPr id="235" name="Text Box 43"/>
            <p:cNvSpPr/>
            <p:nvPr/>
          </p:nvSpPr>
          <p:spPr>
            <a:xfrm>
              <a:off x="1752480" y="5562720"/>
              <a:ext cx="716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Step 4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pattern, we know tha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= 7 , b = 2x, and a = x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" name="Object 57"/>
            <p:cNvGraphicFramePr/>
            <p:nvPr/>
          </p:nvGraphicFramePr>
          <p:xfrm>
            <a:off x="8381880" y="5562720"/>
            <a:ext cx="38124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1880" y="5562720"/>
                      <a:ext cx="381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7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7391-EF7D-4B48-BDA0-9CD3F41BA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value of a and b.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41" name="Object 42"/>
          <p:cNvGraphicFramePr/>
          <p:nvPr/>
        </p:nvGraphicFramePr>
        <p:xfrm>
          <a:off x="2527200" y="2768760"/>
          <a:ext cx="241560" cy="21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2768760"/>
                    <a:ext cx="24156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AutoShape 4"/>
          <p:cNvSpPr/>
          <p:nvPr/>
        </p:nvSpPr>
        <p:spPr>
          <a:xfrm>
            <a:off x="2057400" y="1828800"/>
            <a:ext cx="2209680" cy="1981080"/>
          </a:xfrm>
          <a:prstGeom prst="rtTriangle">
            <a:avLst/>
          </a:prstGeom>
          <a:solidFill>
            <a:srgbClr val="d6e0e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24382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20574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219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8195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34290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7524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d the missing angle mea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400800" y="4343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429000" y="3429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 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752480" y="4724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special right triangle app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7162920" y="4724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45°-45°-9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52480" y="5181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 the 45°-45°-90° pattern with the prob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6095880" y="1981080"/>
            <a:ext cx="1600200" cy="1752840"/>
          </a:xfrm>
          <a:prstGeom prst="rtTriangl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609588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64008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6095880" y="2286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70866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2"/>
          <p:cNvSpPr/>
          <p:nvPr/>
        </p:nvSpPr>
        <p:spPr>
          <a:xfrm>
            <a:off x="6629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54864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69343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5"/>
          <p:cNvSpPr/>
          <p:nvPr/>
        </p:nvSpPr>
        <p:spPr>
          <a:xfrm>
            <a:off x="6477120" y="3733920"/>
            <a:ext cx="685800" cy="457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26"/>
          <p:cNvSpPr/>
          <p:nvPr/>
        </p:nvSpPr>
        <p:spPr>
          <a:xfrm>
            <a:off x="1143000" y="2286000"/>
            <a:ext cx="8380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7"/>
          <p:cNvSpPr/>
          <p:nvPr/>
        </p:nvSpPr>
        <p:spPr>
          <a:xfrm>
            <a:off x="5410080" y="2819520"/>
            <a:ext cx="68580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28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AutoShape 29"/>
          <p:cNvCxnSpPr>
            <a:stCxn id="267" idx="6"/>
            <a:endCxn id="266" idx="3"/>
          </p:cNvCxnSpPr>
          <p:nvPr/>
        </p:nvCxnSpPr>
        <p:spPr>
          <a:xfrm flipV="1">
            <a:off x="3290400" y="3223800"/>
            <a:ext cx="2220120" cy="815040"/>
          </a:xfrm>
          <a:prstGeom prst="curved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69" name="Oval 30"/>
          <p:cNvSpPr/>
          <p:nvPr/>
        </p:nvSpPr>
        <p:spPr>
          <a:xfrm>
            <a:off x="3276720" y="2590920"/>
            <a:ext cx="60948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31"/>
          <p:cNvSpPr/>
          <p:nvPr/>
        </p:nvSpPr>
        <p:spPr>
          <a:xfrm>
            <a:off x="6858000" y="2514600"/>
            <a:ext cx="76212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AutoShape 32"/>
          <p:cNvCxnSpPr>
            <a:stCxn id="269" idx="6"/>
            <a:endCxn id="270" idx="2"/>
          </p:cNvCxnSpPr>
          <p:nvPr/>
        </p:nvCxnSpPr>
        <p:spPr>
          <a:xfrm flipV="1">
            <a:off x="3900240" y="2743200"/>
            <a:ext cx="2943720" cy="76680"/>
          </a:xfrm>
          <a:prstGeom prst="bentConnector3">
            <a:avLst>
              <a:gd name="adj1" fmla="val 50000"/>
            </a:avLst>
          </a:prstGeom>
          <a:ln w="381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72" name="Text Box 33"/>
          <p:cNvSpPr/>
          <p:nvPr/>
        </p:nvSpPr>
        <p:spPr>
          <a:xfrm>
            <a:off x="1752480" y="55627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4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pattern, we know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= 7 , a = x, and b = x  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09480" y="3733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= 7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36"/>
          <p:cNvSpPr/>
          <p:nvPr/>
        </p:nvSpPr>
        <p:spPr>
          <a:xfrm>
            <a:off x="609480" y="3505320"/>
            <a:ext cx="1143000" cy="761760"/>
          </a:xfrm>
          <a:prstGeom prst="wedgeRoundRectCallout">
            <a:avLst>
              <a:gd name="adj1" fmla="val 141111"/>
              <a:gd name="adj2" fmla="val 39791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7"/>
          <p:cNvSpPr/>
          <p:nvPr/>
        </p:nvSpPr>
        <p:spPr>
          <a:xfrm>
            <a:off x="4114800" y="19051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= 7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AutoShape 38"/>
          <p:cNvCxnSpPr>
            <a:stCxn id="265" idx="7"/>
            <a:endCxn id="264" idx="3"/>
          </p:cNvCxnSpPr>
          <p:nvPr/>
        </p:nvCxnSpPr>
        <p:spPr>
          <a:xfrm flipH="1" rot="16200000">
            <a:off x="3312000" y="873000"/>
            <a:ext cx="1811880" cy="4718520"/>
          </a:xfrm>
          <a:prstGeom prst="curvedConnector5">
            <a:avLst>
              <a:gd name="adj1" fmla="val -27861"/>
              <a:gd name="adj2" fmla="val 25652"/>
              <a:gd name="adj3" fmla="val -27861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77" name="AutoShape 39"/>
          <p:cNvSpPr/>
          <p:nvPr/>
        </p:nvSpPr>
        <p:spPr>
          <a:xfrm>
            <a:off x="3886200" y="1828800"/>
            <a:ext cx="1676520" cy="533520"/>
          </a:xfrm>
          <a:prstGeom prst="wedgeRoundRectCallout">
            <a:avLst>
              <a:gd name="adj1" fmla="val -57384"/>
              <a:gd name="adj2" fmla="val 10803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0"/>
          <p:cNvSpPr/>
          <p:nvPr/>
        </p:nvSpPr>
        <p:spPr>
          <a:xfrm>
            <a:off x="175248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5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for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46"/>
          <p:cNvGraphicFramePr/>
          <p:nvPr/>
        </p:nvGraphicFramePr>
        <p:xfrm>
          <a:off x="7086600" y="2514600"/>
          <a:ext cx="45720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251460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48"/>
          <p:cNvGraphicFramePr/>
          <p:nvPr/>
        </p:nvGraphicFramePr>
        <p:xfrm>
          <a:off x="8229600" y="5533920"/>
          <a:ext cx="45720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553392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9"/>
          <p:cNvGraphicFramePr/>
          <p:nvPr/>
        </p:nvGraphicFramePr>
        <p:xfrm>
          <a:off x="4724280" y="1828800"/>
          <a:ext cx="45720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Object 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182880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22:59:07Z</dcterms:created>
  <dc:creator>Authorized User</dc:creator>
  <dc:description/>
  <dc:language>en-US</dc:language>
  <cp:lastModifiedBy>Cynthia H. Morgan</cp:lastModifiedBy>
  <dcterms:modified xsi:type="dcterms:W3CDTF">2015-02-02T18:15:06Z</dcterms:modified>
  <cp:revision>34</cp:revision>
  <dc:subject/>
  <dc:title>Lesson 7-3</dc:title>
</cp:coreProperties>
</file>